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16A0702C-71E2-4FAB-9AAD-298F7E62C3B4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3873365E-795F-4537-8DC9-B02AE6518C81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25640" y="1752480"/>
            <a:ext cx="655308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Exercise: PSP2 Grading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2 and PSP2.1 Common Errors </a:t>
            </a: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39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 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sults aren’t accurate enough (a defect has been missed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 7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shows that the student doesn’t understand PROBE meth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SP2 students learn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duct and manage personal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 design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control process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who learn and correctly practice the review techniques produce code that is nearly free of defects after code revie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ing to conduct effective personal reviews is a key learning objec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will help you to understand the coaching and grading strategy for PSP2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2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s of PSP2 are to introdu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 orderly design frame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ing PSP2 and PSP2.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06640" y="1477800"/>
            <a:ext cx="792792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ssignment evaluation criteria include those in PSP1, plus ensuring that historical data are consistently used to improve th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cus on getting students to achie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ield </a:t>
            </a:r>
            <a:r>
              <a:rPr b="0" lang="en-US" sz="2200" spc="-1" strike="noStrike">
                <a:solidFill>
                  <a:srgbClr val="39536b"/>
                </a:solidFill>
                <a:latin typeface="Symbol"/>
                <a:ea typeface="Symbol"/>
              </a:rPr>
              <a:t>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70% or great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ile defects &lt; 10 defects/K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defects &lt; 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d desig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s that are within prediction interv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e the Assign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 grading checklist, grade the student’s assign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925440" y="5173560"/>
            <a:ext cx="158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9536b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60 minu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209760" y="4913280"/>
            <a:ext cx="56700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Did You Find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666880" y="1650960"/>
          <a:ext cx="3864240" cy="43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50960"/>
                    <a:ext cx="3864240" cy="4361040"/>
                  </a:xfrm>
                  <a:prstGeom prst="rect">
                    <a:avLst/>
                  </a:prstGeom>
                  <a:ln w="12600">
                    <a:solidFill>
                      <a:srgbClr val="39536b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4032360" y="2116080"/>
            <a:ext cx="11365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ing PSP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iscuss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efects did you make in PSP2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guidance did your instructor give to you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ere some of your PIP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as your state of mind?  How did you feel about PSP2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o you know now that you didn’t know the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n instructor, what problems do you expect to see and how will you recognize them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guidance will you giv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PSP2 and PSP2.1 Common Errors </a:t>
            </a: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2000" y="1477800"/>
            <a:ext cx="792792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ign and Code Review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 rate &gt; 200 LOC/h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 time &lt; 50% of development time (e.g. 50 min in code and less than 25 minutes in code review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 checklists not detailed enoug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t taking a break before starting a review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t reviewing on pape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ing at the wrong time of da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lying on test to remove a high percentage of code defe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ign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ign time is less than of code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t using the templa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peration scenario and test report not complimentar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01Z</dcterms:modified>
  <cp:revision>200</cp:revision>
  <dc:subject/>
  <dc:title>No Slide Title</dc:title>
</cp:coreProperties>
</file>